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9C1E-0DF3-4EB9-80AC-83EA047EC9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Anglo-saxons le désignent comme « Player-piano » et continuent à en fabriqu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F45D0-CD15-4D3B-B343-8948E263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21F8-689E-45DA-B13C-91D8EB5B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971A-6888-4E91-97B3-71FE18C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690D4-2202-41C4-962C-FA4AD134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EC45-1EC2-41D3-91B5-F25ED886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2670-4FE3-4025-9A7D-EF434E1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B47-13A5-4FA3-8DD9-BEA8B376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08F0-2616-40AA-865E-08BF3F77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0645-4584-433C-BB0F-D9CDCC64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1F15-EB87-44F1-B451-76622F42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61EA-F88D-4B25-AA38-03AEABA5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AEDD-B496-4666-9556-CC2B172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461F-7550-45F4-B269-78D0C789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1C2F-CDFD-4A64-9047-9D0945B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AD84-A66C-4526-A570-4B3BBBBE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A56-1A30-4406-AD81-66638FD3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0311-BB53-4CE6-BF4D-63CB6BC43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C055-50DF-42AF-B568-BA7D2E9E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332E-D583-4517-9881-969F616A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CBC2-A54C-4FC0-86B1-C6A4812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43C3-42D6-49DC-AA99-C2B18346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F7C4-BF2F-419D-9ADE-287E04A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56A5-F8B0-47BF-9D4D-239A8EC0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903F-CC34-4E1E-9EE1-D8E02C8A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3379-4387-4A2D-9F1E-E7904AB0A274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1B41-9B9E-4A57-9D23-529F14FFC5C9}" type="slidenum">
              <a:rPr b="0" lang="fr-FR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PLEYEL-ODEOL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rescapé des pianos à pédales de nos grands-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t d’autres ,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s récents (198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16360" y="1514520"/>
            <a:ext cx="4048200" cy="5343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1514520"/>
            <a:ext cx="4047840" cy="5343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3964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8101080" y="184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048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2501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Aperçu rayons x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8280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érieur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érieur 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608280" y="907920"/>
            <a:ext cx="472752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xempl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497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i-ci date de 1910 et a survécu à plusieurs restaurations ( 1925….1993 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129440" cy="4784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6000" y="2060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4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588960"/>
            <a:ext cx="82072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ici son conte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200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137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n haut la partie lec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1314360"/>
            <a:ext cx="756144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240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-964080"/>
            <a:ext cx="9144000" cy="78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48360" cy="498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15080" y="174600"/>
            <a:ext cx="44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ns laquelle sera placé un rouleau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9218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En bas la partie soufflerie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 sera animée au moyen des péd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624720" cy="44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7868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On contrôle le tempo et l’ expression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 moy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 manet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 en modul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’ appui s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péd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28954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Quelques titres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3628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 des rouleaux vénérab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2017440" cy="1892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2016000" cy="1731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788000" y="1557360"/>
            <a:ext cx="1871640" cy="1739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877080" y="1557360"/>
            <a:ext cx="1942920" cy="1697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908000" y="4014720"/>
            <a:ext cx="1943280" cy="18320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5219640" y="4065480"/>
            <a:ext cx="2162160" cy="1895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95280" y="1773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270036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493236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7020000" y="162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2050920" y="4076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5292720" y="4149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328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92673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448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28259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3944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83024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86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Quelques amorces de rouleaux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2184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ciens (192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16360" cy="2911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048200" cy="4772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643280" y="1557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08349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51084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2:52:49Z</dcterms:created>
  <dc:creator>DETREY</dc:creator>
  <dc:description/>
  <dc:language>en-US</dc:language>
  <cp:lastModifiedBy>DETREY</cp:lastModifiedBy>
  <dcterms:modified xsi:type="dcterms:W3CDTF">2007-06-04T14:06:54Z</dcterms:modified>
  <cp:revision>34</cp:revision>
  <dc:subject/>
  <dc:title>PLEYEL-ODEOLA</dc:title>
</cp:coreProperties>
</file>